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D62C-424F-40D5-B7F6-5679BCE4D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FEEE-BEF3-4018-BDB6-D7CBBAB94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641E-CCD4-4F64-8165-5254D8B5A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1EEF-2BFC-40D9-93E9-988390A4C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2F2E-1BFF-4D06-9D24-4FBC7EEC7F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C51B-9038-48EF-A385-E1B7271FED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AA8D-C852-412D-9E41-E00DB5557D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470A-3441-483E-97A9-6DB11F648B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EB45-7B67-4D20-9D3F-B2EEE9EBBB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B5C9-6FA7-4EBB-9B12-1EC026E04A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637B-F396-48FD-B1B0-49989F682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D5A3-1E75-49BD-893C-9DA92B17E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2795-3BFD-4C6F-A262-D90DA56A35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69C2-DFE4-4438-AE9A-4B6B9D5210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CD243-7028-4096-A175-60B016064D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FDB9-4C5C-4194-9FAF-0D14539671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667C-8CFF-4562-8CE5-9C2EAF30F9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21E-6A94-4BA4-9A34-99D332660E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831-0296-4284-8A62-8741682BD4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481-0627-478A-A9D7-9E67E27B44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D67-65D8-456F-B929-7ACC3DAB04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0CF-99E4-4EE7-9E5B-4A97EB705B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C604-B4DD-4CA8-A1A2-C671058585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FBE-D739-47BC-BB7A-F7131678AD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3E3-75DA-4A16-A685-447C8CBF23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040-D128-40A9-B075-026F6A8E35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D8D-9B68-4ABB-97AA-6A4047D935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504-3293-4429-9334-1E70D3F9EE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C00-D7CB-47BD-B836-E334C0E16F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D0F-EFC8-4FC8-97A8-1C4150C066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0C637-B9B0-43AD-8C33-878F19EE78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6AFA2-A6D4-44C2-B602-0D167501C7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ED7B2-61EB-4A02-81D3-F9E2507E3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7949-D7E0-4A1B-AE25-838793227F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9D954-00F6-4F3F-B1E9-D2FC637932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D3799-FEEE-4ABB-A08F-6962E2D06A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B0057-DC26-4283-ADE5-7F997EAA28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59F8F-D5D9-4020-B54E-0050E74D77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4E7A0-1610-417B-98BD-19B790633F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C2B95-858F-423B-9D42-F7A101EA4E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B0200-DE6D-4950-A87F-E56061A08A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34B33-9A1B-4F44-A22F-AD1DFC5D9D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13DC3-7BE4-4E67-9A36-E9B7E3BB1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943E-101C-40D0-9AF2-07D3DB4C7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0616-9A5A-47EC-83F1-612FB45D3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54CC-0DD1-49A7-8298-A7F07D727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1A0E-1924-4071-8F26-6BFF57019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C2E4-B4DC-4625-AD58-1355C539E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569880"/>
            <a:ext cx="8542080" cy="1052280"/>
            <a:chOff x="76320" y="569880"/>
            <a:chExt cx="8542080" cy="1052280"/>
          </a:xfrm>
        </p:grpSpPr>
        <p:sp>
          <p:nvSpPr>
            <p:cNvPr id="1" name=""/>
            <p:cNvSpPr/>
            <p:nvPr/>
          </p:nvSpPr>
          <p:spPr>
            <a:xfrm>
              <a:off x="366840" y="677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49520" y="677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0680" y="1100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0400" y="1100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1027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11360" y="569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92040" y="1360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2388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E683-099F-4715-9897-AE837C6285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960F-5090-4D61-BDA4-27B282487F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6320" y="569880"/>
            <a:ext cx="8542080" cy="1052280"/>
            <a:chOff x="76320" y="569880"/>
            <a:chExt cx="8542080" cy="1052280"/>
          </a:xfrm>
        </p:grpSpPr>
        <p:sp>
          <p:nvSpPr>
            <p:cNvPr id="97" name=""/>
            <p:cNvSpPr/>
            <p:nvPr/>
          </p:nvSpPr>
          <p:spPr>
            <a:xfrm>
              <a:off x="366840" y="677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520" y="677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0680" y="1100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0400" y="1100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320" y="1027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1360" y="569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040" y="1360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3"/>
          </p:nvPr>
        </p:nvSpPr>
        <p:spPr>
          <a:xfrm>
            <a:off x="72388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3BED-916B-41E6-98A1-7A5B557150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6CBF-5780-4883-BD50-F06289376C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209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dictive Runtime Analysis: Datara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Formal  Methods in System Design– CS47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rigore Ros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1DF6-2D4F-401D-B18C-4805F62043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548360" y="24130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16400" y="2932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40800" y="34034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67720" y="4608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3800" y="50799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61960" y="56134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724280" y="2352600"/>
            <a:ext cx="4038840" cy="3209760"/>
            <a:chOff x="4724280" y="2352600"/>
            <a:chExt cx="4038840" cy="3209760"/>
          </a:xfrm>
        </p:grpSpPr>
        <p:sp>
          <p:nvSpPr>
            <p:cNvPr id="297" name="Cloud"/>
            <p:cNvSpPr/>
            <p:nvPr/>
          </p:nvSpPr>
          <p:spPr>
            <a:xfrm>
              <a:off x="4724280" y="2352600"/>
              <a:ext cx="4038840" cy="18385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2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rot="18889800">
              <a:off x="5219280" y="369540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28600" y="2819160"/>
            <a:ext cx="4038480" cy="3133800"/>
            <a:chOff x="228600" y="2819160"/>
            <a:chExt cx="4038480" cy="3133800"/>
          </a:xfrm>
        </p:grpSpPr>
        <p:sp>
          <p:nvSpPr>
            <p:cNvPr id="300" name="Cloud"/>
            <p:cNvSpPr/>
            <p:nvPr/>
          </p:nvSpPr>
          <p:spPr>
            <a:xfrm>
              <a:off x="228600" y="4114800"/>
              <a:ext cx="4038480" cy="183816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1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 rot="2710200">
              <a:off x="799920" y="316116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7FD-C07E-42B3-9E36-D1F143D8E1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1482840" y="2413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16400" y="2932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5280" y="34034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02200" y="46083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3800" y="50799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96800" y="56134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724280" y="2352600"/>
            <a:ext cx="4038840" cy="3209760"/>
            <a:chOff x="4724280" y="2352600"/>
            <a:chExt cx="4038840" cy="3209760"/>
          </a:xfrm>
        </p:grpSpPr>
        <p:sp>
          <p:nvSpPr>
            <p:cNvPr id="312" name="Cloud"/>
            <p:cNvSpPr/>
            <p:nvPr/>
          </p:nvSpPr>
          <p:spPr>
            <a:xfrm>
              <a:off x="4724280" y="2352600"/>
              <a:ext cx="4038840" cy="18385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2) = {mutex2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rot="18889800">
              <a:off x="5219280" y="369540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28600" y="2819160"/>
            <a:ext cx="4038480" cy="3133800"/>
            <a:chOff x="228600" y="2819160"/>
            <a:chExt cx="4038480" cy="3133800"/>
          </a:xfrm>
        </p:grpSpPr>
        <p:sp>
          <p:nvSpPr>
            <p:cNvPr id="315" name="Cloud"/>
            <p:cNvSpPr/>
            <p:nvPr/>
          </p:nvSpPr>
          <p:spPr>
            <a:xfrm>
              <a:off x="228600" y="4114800"/>
              <a:ext cx="4038480" cy="183816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1) = {mutex1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1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2710200">
              <a:off x="799920" y="316116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529800" y="602784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arn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B12-34B6-4CB4-BB31-150527D2CA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Improv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vars are usually initialized without a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shar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shared vars are usually written at initialization and are read-only there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write 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 shared var to have multiple readers but only a single wri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190-14BD-463B-A2E2-BC3B39FD7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M for each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600200"/>
            <a:ext cx="1447920" cy="838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3352680"/>
            <a:ext cx="1447920" cy="83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5562720"/>
            <a:ext cx="1447920" cy="838080"/>
          </a:xfrm>
          <a:prstGeom prst="ellipse">
            <a:avLst/>
          </a:prstGeom>
          <a:solidFill>
            <a:srgbClr val="fbf507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3352680"/>
            <a:ext cx="1447920" cy="838440"/>
          </a:xfrm>
          <a:prstGeom prst="ellipse">
            <a:avLst/>
          </a:prstGeom>
          <a:solidFill>
            <a:srgbClr val="fd2e05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4"/>
            <a:endCxn id="322" idx="0"/>
          </p:cNvCxnSpPr>
          <p:nvPr/>
        </p:nvCxnSpPr>
        <p:spPr>
          <a:xfrm>
            <a:off x="2704680" y="243828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2" idx="4"/>
            <a:endCxn id="323" idx="0"/>
          </p:cNvCxnSpPr>
          <p:nvPr/>
        </p:nvCxnSpPr>
        <p:spPr>
          <a:xfrm>
            <a:off x="2704680" y="4191120"/>
            <a:ext cx="1080" cy="137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3" idx="6"/>
            <a:endCxn id="324" idx="3"/>
          </p:cNvCxnSpPr>
          <p:nvPr/>
        </p:nvCxnSpPr>
        <p:spPr>
          <a:xfrm flipV="1">
            <a:off x="3428640" y="4068360"/>
            <a:ext cx="2423160" cy="1913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2" idx="6"/>
            <a:endCxn id="324" idx="2"/>
          </p:cNvCxnSpPr>
          <p:nvPr/>
        </p:nvCxnSpPr>
        <p:spPr>
          <a:xfrm>
            <a:off x="3429000" y="3771720"/>
            <a:ext cx="2210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2" idx="1"/>
            <a:endCxn id="322" idx="3"/>
          </p:cNvCxnSpPr>
          <p:nvPr/>
        </p:nvCxnSpPr>
        <p:spPr>
          <a:xfrm flipH="1" rot="16200000">
            <a:off x="1897560" y="3769920"/>
            <a:ext cx="594360" cy="2520"/>
          </a:xfrm>
          <a:prstGeom prst="curvedConnector5">
            <a:avLst>
              <a:gd name="adj1" fmla="val -59090"/>
              <a:gd name="adj2" fmla="val -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3" idx="1"/>
            <a:endCxn id="323" idx="3"/>
          </p:cNvCxnSpPr>
          <p:nvPr/>
        </p:nvCxnSpPr>
        <p:spPr>
          <a:xfrm flipH="1" rot="16200000">
            <a:off x="1897560" y="5979600"/>
            <a:ext cx="594360" cy="2520"/>
          </a:xfrm>
          <a:prstGeom prst="curvedConnector5">
            <a:avLst>
              <a:gd name="adj1" fmla="val -59090"/>
              <a:gd name="adj2" fmla="val -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4" idx="7"/>
            <a:endCxn id="324" idx="5"/>
          </p:cNvCxnSpPr>
          <p:nvPr/>
        </p:nvCxnSpPr>
        <p:spPr>
          <a:xfrm flipH="1" rot="16200000">
            <a:off x="6577560" y="3769920"/>
            <a:ext cx="594360" cy="2520"/>
          </a:xfrm>
          <a:prstGeom prst="curvedConnector5">
            <a:avLst>
              <a:gd name="adj1" fmla="val -59090"/>
              <a:gd name="adj2" fmla="val 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238840" y="2590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9400" y="4343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0" y="39783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,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rst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0400" y="5638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68040" y="289548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12040" y="5562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773840" y="2590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,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5257800"/>
            <a:ext cx="38088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6172200"/>
            <a:ext cx="380880" cy="228600"/>
          </a:xfrm>
          <a:prstGeom prst="rect">
            <a:avLst/>
          </a:prstGeom>
          <a:solidFill>
            <a:srgbClr val="fd2e05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9920" y="5715000"/>
            <a:ext cx="380880" cy="228600"/>
          </a:xfrm>
          <a:prstGeom prst="rect">
            <a:avLst/>
          </a:prstGeom>
          <a:solidFill>
            <a:srgbClr val="fbf507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54880" y="5105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54520" y="5562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57040" y="6019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lso 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F7D-820E-4B03-AEF2-DFC70E513C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66280" y="4572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12000" y="50436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60520" y="55767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37560" y="611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1752480"/>
            <a:ext cx="1981080" cy="609840"/>
          </a:xfrm>
          <a:prstGeom prst="wedgeEllipseCallout">
            <a:avLst>
              <a:gd name="adj1" fmla="val -101361"/>
              <a:gd name="adj2" fmla="val 78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2819520"/>
            <a:ext cx="1981080" cy="609480"/>
          </a:xfrm>
          <a:prstGeom prst="wedgeEllipseCallout">
            <a:avLst>
              <a:gd name="adj1" fmla="val -101361"/>
              <a:gd name="adj2" fmla="val 78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208960" y="3886200"/>
            <a:ext cx="2971800" cy="838080"/>
          </a:xfrm>
          <a:prstGeom prst="wedgeEllipseCallout">
            <a:avLst>
              <a:gd name="adj1" fmla="val -75324"/>
              <a:gd name="adj2" fmla="val 109467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mutex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208960" y="4952880"/>
            <a:ext cx="2971800" cy="838440"/>
          </a:xfrm>
          <a:prstGeom prst="wedgeEllipseCallout">
            <a:avLst>
              <a:gd name="adj1" fmla="val -73453"/>
              <a:gd name="adj2" fmla="val -871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-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mutex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208960" y="5943600"/>
            <a:ext cx="2971800" cy="838080"/>
          </a:xfrm>
          <a:prstGeom prst="wedgeEllipseCallout">
            <a:avLst>
              <a:gd name="adj1" fmla="val -73453"/>
              <a:gd name="adj2" fmla="val -8712"/>
            </a:avLst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-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028-1F8D-4171-8282-8800DEFA97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3916440"/>
            <a:ext cx="8229600" cy="2484360"/>
            <a:chOff x="457200" y="3916440"/>
            <a:chExt cx="8229600" cy="2484360"/>
          </a:xfrm>
        </p:grpSpPr>
        <p:sp>
          <p:nvSpPr>
            <p:cNvPr id="363" name=""/>
            <p:cNvSpPr/>
            <p:nvPr/>
          </p:nvSpPr>
          <p:spPr>
            <a:xfrm>
              <a:off x="457200" y="3962520"/>
              <a:ext cx="8229600" cy="24382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3623040" y="4114800"/>
              <a:ext cx="4928400" cy="2206080"/>
              <a:chOff x="3623040" y="4114800"/>
              <a:chExt cx="4928400" cy="2206080"/>
            </a:xfrm>
          </p:grpSpPr>
          <p:sp>
            <p:nvSpPr>
              <p:cNvPr id="365" name=""/>
              <p:cNvSpPr/>
              <p:nvPr/>
            </p:nvSpPr>
            <p:spPr>
              <a:xfrm>
                <a:off x="7021440" y="4406760"/>
                <a:ext cx="685440" cy="1524240"/>
              </a:xfrm>
              <a:custGeom>
                <a:avLst/>
                <a:gdLst>
                  <a:gd name="textAreaLeft" fmla="*/ 55080 w 685440"/>
                  <a:gd name="textAreaRight" fmla="*/ 630360 w 685440"/>
                  <a:gd name="textAreaTop" fmla="*/ 55080 h 1524240"/>
                  <a:gd name="textAreaBottom" fmla="*/ 1469160 h 1524240"/>
                </a:gdLst>
                <a:ahLst/>
                <a:rect l="textAreaLeft" t="textAreaTop" r="textAreaRight" b="textAreaBottom"/>
                <a:pathLst>
                  <a:path w="21600" h="48019">
                    <a:moveTo>
                      <a:pt x="5956" y="0"/>
                    </a:moveTo>
                    <a:arcTo wR="5956" hR="5956" stAng="16200000" swAng="-5400000"/>
                    <a:lnTo>
                      <a:pt x="0" y="42063"/>
                    </a:lnTo>
                    <a:arcTo wR="5956" hR="5956" stAng="10800000" swAng="-5400000"/>
                    <a:lnTo>
                      <a:pt x="15644" y="48019"/>
                    </a:lnTo>
                    <a:arcTo wR="5956" hR="5956" stAng="5400000" swAng="-5400000"/>
                    <a:lnTo>
                      <a:pt x="21600" y="5956"/>
                    </a:lnTo>
                    <a:arcTo wR="5956" hR="5956" stAng="0" swAng="-5400000"/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Tahoma"/>
                  </a:rPr>
                  <a:t>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27680" y="4114800"/>
                <a:ext cx="3617280" cy="588960"/>
              </a:xfrm>
              <a:custGeom>
                <a:avLst/>
                <a:gdLst/>
                <a:ahLst/>
                <a:rect l="l" t="t" r="r" b="b"/>
                <a:pathLst>
                  <a:path w="2279" h="371">
                    <a:moveTo>
                      <a:pt x="0" y="218"/>
                    </a:moveTo>
                    <a:cubicBezTo>
                      <a:pt x="108" y="242"/>
                      <a:pt x="396" y="349"/>
                      <a:pt x="647" y="360"/>
                    </a:cubicBezTo>
                    <a:cubicBezTo>
                      <a:pt x="898" y="371"/>
                      <a:pt x="1235" y="342"/>
                      <a:pt x="1507" y="282"/>
                    </a:cubicBezTo>
                    <a:cubicBezTo>
                      <a:pt x="1779" y="222"/>
                      <a:pt x="2118" y="59"/>
                      <a:pt x="2279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95960" y="418464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71960" y="4697280"/>
                <a:ext cx="3555720" cy="517680"/>
              </a:xfrm>
              <a:custGeom>
                <a:avLst/>
                <a:gdLst/>
                <a:ahLst/>
                <a:rect l="l" t="t" r="r" b="b"/>
                <a:pathLst>
                  <a:path w="2240" h="326">
                    <a:moveTo>
                      <a:pt x="0" y="242"/>
                    </a:moveTo>
                    <a:cubicBezTo>
                      <a:pt x="108" y="254"/>
                      <a:pt x="386" y="326"/>
                      <a:pt x="647" y="313"/>
                    </a:cubicBezTo>
                    <a:cubicBezTo>
                      <a:pt x="908" y="300"/>
                      <a:pt x="1299" y="216"/>
                      <a:pt x="1565" y="164"/>
                    </a:cubicBezTo>
                    <a:cubicBezTo>
                      <a:pt x="1831" y="112"/>
                      <a:pt x="2099" y="34"/>
                      <a:pt x="2240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23040" y="487044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95720" y="5526000"/>
                <a:ext cx="3555720" cy="459000"/>
              </a:xfrm>
              <a:custGeom>
                <a:avLst/>
                <a:gdLst/>
                <a:ahLst/>
                <a:rect l="l" t="t" r="r" b="b"/>
                <a:pathLst>
                  <a:path w="2240" h="289">
                    <a:moveTo>
                      <a:pt x="0" y="289"/>
                    </a:moveTo>
                    <a:cubicBezTo>
                      <a:pt x="125" y="255"/>
                      <a:pt x="500" y="130"/>
                      <a:pt x="753" y="83"/>
                    </a:cubicBezTo>
                    <a:cubicBezTo>
                      <a:pt x="1006" y="36"/>
                      <a:pt x="1273" y="8"/>
                      <a:pt x="1521" y="4"/>
                    </a:cubicBezTo>
                    <a:cubicBezTo>
                      <a:pt x="1769" y="0"/>
                      <a:pt x="2090" y="49"/>
                      <a:pt x="2240" y="6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67520" y="586116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349360" y="391644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9360" y="5549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11960" y="4572000"/>
              <a:ext cx="20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false al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31440" y="23004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1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8240" y="28195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4240" y="32907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2,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79560" y="2286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2,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26000" y="2805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72000" y="3276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3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9720" y="2286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3,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21840" y="2805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72520" y="3276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1,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56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2664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5084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F2C-A991-4559-A8E6-160E4FB068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cise datarace detection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time/space expensive than Era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rack of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ome of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memory ac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new read/write event is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it against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previous a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the new memory access only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if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8CC-10E5-4337-A764-1D6C841454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Database of ev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a database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toring tu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, R/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variable or memory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execution thread accessing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set of current locks held b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/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lag giving the type of access (read or wr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ly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emp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0E3-240A-49B8-A035-DC03FB4525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that a thread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holding lock set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is seen to perform a read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r a write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f a variab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the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cases can be distinguished, but before that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75B-936F-4DBD-A93E-E6E0FAFC47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… major go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effective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if for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R/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just received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’ = (v : T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lready in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simply discarded, because any possible warning message (datarace) involving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ould be reported because o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BAF-BA5B-4D98-8463-1D386AC423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ve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458200" y="594360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291520" y="2849400"/>
            <a:ext cx="824040" cy="2494080"/>
          </a:xfrm>
          <a:custGeom>
            <a:avLst/>
            <a:gdLst/>
            <a:ahLst/>
            <a:rect l="l" t="t" r="r" b="b"/>
            <a:pathLst>
              <a:path w="519" h="1571">
                <a:moveTo>
                  <a:pt x="519" y="5"/>
                </a:moveTo>
                <a:cubicBezTo>
                  <a:pt x="436" y="33"/>
                  <a:pt x="484" y="25"/>
                  <a:pt x="375" y="14"/>
                </a:cubicBezTo>
                <a:cubicBezTo>
                  <a:pt x="317" y="0"/>
                  <a:pt x="261" y="4"/>
                  <a:pt x="204" y="23"/>
                </a:cubicBezTo>
                <a:cubicBezTo>
                  <a:pt x="180" y="59"/>
                  <a:pt x="167" y="53"/>
                  <a:pt x="132" y="77"/>
                </a:cubicBezTo>
                <a:cubicBezTo>
                  <a:pt x="126" y="86"/>
                  <a:pt x="122" y="96"/>
                  <a:pt x="114" y="104"/>
                </a:cubicBezTo>
                <a:cubicBezTo>
                  <a:pt x="106" y="112"/>
                  <a:pt x="93" y="113"/>
                  <a:pt x="87" y="122"/>
                </a:cubicBezTo>
                <a:cubicBezTo>
                  <a:pt x="77" y="138"/>
                  <a:pt x="69" y="176"/>
                  <a:pt x="69" y="176"/>
                </a:cubicBezTo>
                <a:cubicBezTo>
                  <a:pt x="66" y="203"/>
                  <a:pt x="60" y="230"/>
                  <a:pt x="60" y="257"/>
                </a:cubicBezTo>
                <a:cubicBezTo>
                  <a:pt x="60" y="272"/>
                  <a:pt x="65" y="287"/>
                  <a:pt x="69" y="302"/>
                </a:cubicBezTo>
                <a:cubicBezTo>
                  <a:pt x="78" y="333"/>
                  <a:pt x="93" y="413"/>
                  <a:pt x="123" y="437"/>
                </a:cubicBezTo>
                <a:cubicBezTo>
                  <a:pt x="130" y="443"/>
                  <a:pt x="141" y="443"/>
                  <a:pt x="150" y="446"/>
                </a:cubicBezTo>
                <a:cubicBezTo>
                  <a:pt x="177" y="486"/>
                  <a:pt x="213" y="514"/>
                  <a:pt x="240" y="554"/>
                </a:cubicBezTo>
                <a:cubicBezTo>
                  <a:pt x="269" y="669"/>
                  <a:pt x="216" y="778"/>
                  <a:pt x="105" y="815"/>
                </a:cubicBezTo>
                <a:cubicBezTo>
                  <a:pt x="78" y="812"/>
                  <a:pt x="50" y="815"/>
                  <a:pt x="24" y="806"/>
                </a:cubicBezTo>
                <a:cubicBezTo>
                  <a:pt x="14" y="802"/>
                  <a:pt x="7" y="790"/>
                  <a:pt x="6" y="779"/>
                </a:cubicBezTo>
                <a:cubicBezTo>
                  <a:pt x="0" y="703"/>
                  <a:pt x="21" y="666"/>
                  <a:pt x="87" y="644"/>
                </a:cubicBezTo>
                <a:cubicBezTo>
                  <a:pt x="148" y="653"/>
                  <a:pt x="190" y="656"/>
                  <a:pt x="213" y="725"/>
                </a:cubicBezTo>
                <a:cubicBezTo>
                  <a:pt x="219" y="743"/>
                  <a:pt x="231" y="779"/>
                  <a:pt x="231" y="779"/>
                </a:cubicBezTo>
                <a:cubicBezTo>
                  <a:pt x="223" y="893"/>
                  <a:pt x="208" y="993"/>
                  <a:pt x="186" y="1103"/>
                </a:cubicBezTo>
                <a:cubicBezTo>
                  <a:pt x="177" y="1209"/>
                  <a:pt x="180" y="1291"/>
                  <a:pt x="213" y="1391"/>
                </a:cubicBezTo>
                <a:cubicBezTo>
                  <a:pt x="226" y="1431"/>
                  <a:pt x="259" y="1448"/>
                  <a:pt x="267" y="1472"/>
                </a:cubicBezTo>
                <a:cubicBezTo>
                  <a:pt x="281" y="1513"/>
                  <a:pt x="283" y="1542"/>
                  <a:pt x="312" y="15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ilm"/>
          <p:cNvSpPr/>
          <p:nvPr/>
        </p:nvSpPr>
        <p:spPr>
          <a:xfrm rot="14303400">
            <a:off x="7509960" y="4376160"/>
            <a:ext cx="447480" cy="2819520"/>
          </a:xfrm>
          <a:prstGeom prst="pie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29560" y="5343480"/>
            <a:ext cx="216000" cy="642960"/>
          </a:xfrm>
          <a:custGeom>
            <a:avLst/>
            <a:gdLst/>
            <a:ahLst/>
            <a:rect l="l" t="t" r="r" b="b"/>
            <a:pathLst>
              <a:path w="136" h="405">
                <a:moveTo>
                  <a:pt x="90" y="0"/>
                </a:moveTo>
                <a:cubicBezTo>
                  <a:pt x="113" y="68"/>
                  <a:pt x="136" y="54"/>
                  <a:pt x="108" y="153"/>
                </a:cubicBezTo>
                <a:cubicBezTo>
                  <a:pt x="105" y="165"/>
                  <a:pt x="89" y="170"/>
                  <a:pt x="81" y="180"/>
                </a:cubicBezTo>
                <a:cubicBezTo>
                  <a:pt x="61" y="206"/>
                  <a:pt x="37" y="230"/>
                  <a:pt x="27" y="261"/>
                </a:cubicBezTo>
                <a:cubicBezTo>
                  <a:pt x="0" y="343"/>
                  <a:pt x="9" y="296"/>
                  <a:pt x="9" y="4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610480" y="5029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83059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bug potentials from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ccessful r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dataraces, dead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cale well, very f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ften find the bu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lse positives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4DC7-8137-4000-A81E-FFCDE2719A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… colors and sha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distinct colors for distinct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shapes for read/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s for 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s for wr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xagons for “don’t ca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the scenario on the previous slide can be drawn as follow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419720"/>
            <a:ext cx="2971800" cy="2209680"/>
          </a:xfrm>
          <a:prstGeom prst="hexagon">
            <a:avLst>
              <a:gd name="adj" fmla="val 33623"/>
              <a:gd name="vf" fmla="val 11547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99320" y="4373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29400" y="5181480"/>
            <a:ext cx="1143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81280" y="521172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4724280"/>
            <a:ext cx="1371600" cy="9907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5486400"/>
            <a:ext cx="1295280" cy="12193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1676520"/>
            <a:ext cx="7621200" cy="3583080"/>
            <a:chOff x="685800" y="1676520"/>
            <a:chExt cx="7621200" cy="3583080"/>
          </a:xfrm>
        </p:grpSpPr>
        <p:sp>
          <p:nvSpPr>
            <p:cNvPr id="404" name=""/>
            <p:cNvSpPr/>
            <p:nvPr/>
          </p:nvSpPr>
          <p:spPr>
            <a:xfrm>
              <a:off x="685800" y="1676520"/>
              <a:ext cx="6324480" cy="2895480"/>
            </a:xfrm>
            <a:prstGeom prst="cloudCallout">
              <a:avLst>
                <a:gd name="adj1" fmla="val 15111"/>
                <a:gd name="adj2" fmla="val 84703"/>
              </a:avLst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m, if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oes not intersect the lock set of another thread accessing same variable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v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then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L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is not going to intersect it either, so a warning will be reported anyway.  So I can discard the tuple just receive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30480" y="3946680"/>
              <a:ext cx="776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100-A70C-46B6-8B23-46ABF14721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’, R/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3200400"/>
            <a:ext cx="3124440" cy="2590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7000" y="45720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22800" y="35812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3429000"/>
            <a:ext cx="137160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449568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1480" y="4038480"/>
            <a:ext cx="1905120" cy="1447920"/>
          </a:xfrm>
          <a:prstGeom prst="hexagon">
            <a:avLst>
              <a:gd name="adj" fmla="val 32894"/>
              <a:gd name="vf" fmla="val 11547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23200" y="290988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689-49D2-4F43-AA9A-90A1DEB141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read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5334120" y="2438280"/>
            <a:ext cx="2743200" cy="2286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43600" y="3200400"/>
            <a:ext cx="144792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05760" y="19051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624-8089-4E59-B4C1-18F51B7160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3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therwis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read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hecking read conflict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a read conflict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s 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2D9-728B-486D-9140-80B20D5A74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6417000" y="45720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22800" y="35812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71800" y="3429000"/>
            <a:ext cx="137160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449568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4343400"/>
            <a:ext cx="160020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3657600"/>
            <a:ext cx="2590920" cy="2209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29600" y="289548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7F3-7024-40CE-ABB8-C7E5E82FBD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2971800"/>
            <a:ext cx="175248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10080" y="2590920"/>
            <a:ext cx="2210040" cy="1981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32360" y="24829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65760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9BD-DBD6-4EC9-931D-5EDAC30B8D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2438280"/>
            <a:ext cx="28195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843440" y="21337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1D6-6EE7-4EB6-B151-AF4CBC1479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4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an mark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to be checked only against read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823440" y="350532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60960" y="251460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2438280"/>
            <a:ext cx="2666880" cy="2210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920" y="3352680"/>
            <a:ext cx="1523880" cy="1143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C9F-6EC3-44C3-A929-0DC65A7F0D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hecking write conflic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tup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a current state o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 write conflict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s 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f and only i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R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.t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marked, there is some 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.t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EC0-485F-4B98-88E7-B8A373F55E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66280" y="190512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2376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960520" y="29098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37560" y="3443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6760" y="358128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6400" y="44337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x : T1, {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04920" y="4343400"/>
            <a:ext cx="2433600" cy="1054080"/>
            <a:chOff x="304920" y="4343400"/>
            <a:chExt cx="2433600" cy="1054080"/>
          </a:xfrm>
        </p:grpSpPr>
        <p:sp>
          <p:nvSpPr>
            <p:cNvPr id="474" name=""/>
            <p:cNvSpPr/>
            <p:nvPr/>
          </p:nvSpPr>
          <p:spPr>
            <a:xfrm>
              <a:off x="676080" y="502920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x : T1, {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920" y="43434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48480" y="55911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1, {mutex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09600" y="5500800"/>
            <a:ext cx="2433600" cy="1053720"/>
            <a:chOff x="309600" y="5500800"/>
            <a:chExt cx="2433600" cy="1053720"/>
          </a:xfrm>
        </p:grpSpPr>
        <p:sp>
          <p:nvSpPr>
            <p:cNvPr id="478" name=""/>
            <p:cNvSpPr/>
            <p:nvPr/>
          </p:nvSpPr>
          <p:spPr>
            <a:xfrm>
              <a:off x="312480" y="618624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1, {mutex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9600" y="55008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645880" y="44337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2, {mutex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643360" y="4343400"/>
            <a:ext cx="2433600" cy="1054080"/>
            <a:chOff x="5643360" y="4343400"/>
            <a:chExt cx="2433600" cy="1054080"/>
          </a:xfrm>
        </p:grpSpPr>
        <p:sp>
          <p:nvSpPr>
            <p:cNvPr id="482" name=""/>
            <p:cNvSpPr/>
            <p:nvPr/>
          </p:nvSpPr>
          <p:spPr>
            <a:xfrm>
              <a:off x="5646240" y="502920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2, {mutex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43360" y="43434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6055200" y="5729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x : T2, {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643720" y="5638680"/>
            <a:ext cx="2433600" cy="1054080"/>
            <a:chOff x="5643720" y="5638680"/>
            <a:chExt cx="2433600" cy="1054080"/>
          </a:xfrm>
        </p:grpSpPr>
        <p:sp>
          <p:nvSpPr>
            <p:cNvPr id="486" name=""/>
            <p:cNvSpPr/>
            <p:nvPr/>
          </p:nvSpPr>
          <p:spPr>
            <a:xfrm>
              <a:off x="6014880" y="632448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x : T2, {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3720" y="56386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438280" y="4952880"/>
            <a:ext cx="3505320" cy="12193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37120" y="571500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14A-4841-441C-B465-9D53D848FC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r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905120"/>
            <a:ext cx="7467840" cy="167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when two or more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a shared variable, at least one access is a wr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 mechanism is used to prevent simultaneous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4572000"/>
            <a:ext cx="1447560" cy="990720"/>
          </a:xfrm>
          <a:prstGeom prst="ellipse">
            <a:avLst/>
          </a:prstGeom>
          <a:solidFill>
            <a:srgbClr val="fd2e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572000"/>
            <a:ext cx="1447560" cy="990720"/>
          </a:xfrm>
          <a:prstGeom prst="ellipse">
            <a:avLst/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800600"/>
            <a:ext cx="76176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: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2" idx="6"/>
            <a:endCxn id="204" idx="1"/>
          </p:cNvCxnSpPr>
          <p:nvPr/>
        </p:nvCxnSpPr>
        <p:spPr>
          <a:xfrm>
            <a:off x="3352320" y="506700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6" name=""/>
          <p:cNvCxnSpPr>
            <a:stCxn id="204" idx="3"/>
            <a:endCxn id="203" idx="2"/>
          </p:cNvCxnSpPr>
          <p:nvPr/>
        </p:nvCxnSpPr>
        <p:spPr>
          <a:xfrm>
            <a:off x="4952520" y="506700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205812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7760" y="5410080"/>
            <a:ext cx="11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432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81480" y="518148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89480" y="3809880"/>
            <a:ext cx="44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 Solution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s, semaphor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4320" y="624852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2e05"/>
                </a:solidFill>
                <a:latin typeface="Times New Roman"/>
              </a:rPr>
              <a:t>Result after both updates : 2 …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6027-1F16-4EFF-A6A3-5B329DAE10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38560" y="22096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1,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8240" y="27288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1360" y="32004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2,m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86320" y="2195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2,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26000" y="27147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79120" y="3186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3,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486840" y="2195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3,m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21840" y="27147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79640" y="3186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1,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0256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2664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5084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6760" y="358128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2640" y="4357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1, {m1,m2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91600" y="4267080"/>
            <a:ext cx="2446560" cy="1054080"/>
            <a:chOff x="291600" y="4267080"/>
            <a:chExt cx="2446560" cy="1054080"/>
          </a:xfrm>
        </p:grpSpPr>
        <p:sp>
          <p:nvSpPr>
            <p:cNvPr id="506" name=""/>
            <p:cNvSpPr/>
            <p:nvPr/>
          </p:nvSpPr>
          <p:spPr>
            <a:xfrm>
              <a:off x="291600" y="49528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1, {m1,m2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4560" y="42670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3228120" y="4357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2, {m2,m3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187440" y="4267080"/>
            <a:ext cx="2446560" cy="1054080"/>
            <a:chOff x="3187440" y="4267080"/>
            <a:chExt cx="2446560" cy="1054080"/>
          </a:xfrm>
        </p:grpSpPr>
        <p:sp>
          <p:nvSpPr>
            <p:cNvPr id="510" name=""/>
            <p:cNvSpPr/>
            <p:nvPr/>
          </p:nvSpPr>
          <p:spPr>
            <a:xfrm>
              <a:off x="3187440" y="49528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2, {m2,m3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0400" y="42670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123600" y="43718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3, {m1,m3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082920" y="4281480"/>
            <a:ext cx="2446560" cy="1054080"/>
            <a:chOff x="6082920" y="4281480"/>
            <a:chExt cx="2446560" cy="1054080"/>
          </a:xfrm>
        </p:grpSpPr>
        <p:sp>
          <p:nvSpPr>
            <p:cNvPr id="514" name=""/>
            <p:cNvSpPr/>
            <p:nvPr/>
          </p:nvSpPr>
          <p:spPr>
            <a:xfrm>
              <a:off x="6082920" y="49672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3, {m1,m3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95880" y="42814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41720" y="5835600"/>
            <a:ext cx="48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 conflicts detec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A89-1155-4EA6-A437-8764BE6D80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40080" y="552924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3440" y="4995720"/>
            <a:ext cx="2781360" cy="1524240"/>
          </a:xfrm>
          <a:prstGeom prst="roundRect">
            <a:avLst>
              <a:gd name="adj" fmla="val 16667"/>
            </a:avLst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25680" y="4919760"/>
            <a:ext cx="23623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68880" y="4995720"/>
            <a:ext cx="2857680" cy="1524240"/>
          </a:xfrm>
          <a:prstGeom prst="roundRect">
            <a:avLst>
              <a:gd name="adj" fmla="val 16667"/>
            </a:avLst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1676520"/>
            <a:ext cx="6934320" cy="19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of Datarace in Jav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285560" y="1676520"/>
            <a:ext cx="167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ell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x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24600" y="4916520"/>
            <a:ext cx="22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ew Cell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2640" y="544032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add(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97560" y="5483160"/>
            <a:ext cx="17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add(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25680" y="6138720"/>
            <a:ext cx="23623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24600" y="6138720"/>
            <a:ext cx="22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ew Cell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44800" y="5148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944800" y="6138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88000" y="6138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88000" y="5148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0760" y="453852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03120" y="453852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68440" y="2430360"/>
            <a:ext cx="18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85920" y="2432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get(){return x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(Cell c){x = x + c.get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14720" y="242712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get(){return x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(Cell c){x = x + c.get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11680" y="4049640"/>
            <a:ext cx="8749080" cy="2470680"/>
            <a:chOff x="211680" y="4049640"/>
            <a:chExt cx="8749080" cy="2470680"/>
          </a:xfrm>
        </p:grpSpPr>
        <p:sp>
          <p:nvSpPr>
            <p:cNvPr id="235" name=""/>
            <p:cNvSpPr/>
            <p:nvPr/>
          </p:nvSpPr>
          <p:spPr>
            <a:xfrm>
              <a:off x="3338280" y="4052880"/>
              <a:ext cx="2362320" cy="4572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37920" y="404964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= new Object(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804760" y="42782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00600" y="427824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1680" y="4952880"/>
              <a:ext cx="279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synchronized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200" y="4964040"/>
              <a:ext cx="279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synchronized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3995640" y="56610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127D-D625-4511-A851-948523720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ng Datar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 program to emit events of the for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(registe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mory_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(registe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mory_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and maintain a knowledge database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ate machine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latio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warning if conflict found i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77EE-BB6D-49EF-9224-4CAEF88D33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 re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m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intain a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happens-befo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tial order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 all events of all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ithin one thread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 ed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e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e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ecuted befo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etween 2 thread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unlock(mutex),lock(mutex)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unlock executes befo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wo threads access the same variable and the two accesses are not i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warn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E635-081A-4098-A63D-226C3BDD51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66280" y="4572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50436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60520" y="55767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37560" y="611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rot="16200000">
            <a:off x="1217880" y="21333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rot="16200000">
            <a:off x="1217880" y="26668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rot="16200000">
            <a:off x="1217880" y="32000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16200000">
            <a:off x="5637600" y="48002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rot="16200000">
            <a:off x="5637600" y="53337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rot="16200000">
            <a:off x="5637600" y="58672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3657600"/>
            <a:ext cx="2514600" cy="9144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152280" y="3809880"/>
            <a:ext cx="4267440" cy="2859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two accesses of shared variables are in the relation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happens-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2523-7D1D-4B39-8FC1-7932ED9514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: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546560" y="51958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4600" y="57150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39360" y="61866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89960" y="20574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36040" y="25290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84200" y="30621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82920" y="4724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61240" y="35956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16200000">
            <a:off x="1217880" y="49528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16200000">
            <a:off x="1217880" y="54860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rot="16200000">
            <a:off x="1217880" y="60195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rot="16200000">
            <a:off x="5561280" y="22856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rot="16200000">
            <a:off x="5561280" y="28191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rot="16200000">
            <a:off x="5561280" y="33526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124080" y="3243240"/>
            <a:ext cx="2571840" cy="209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895480" y="3886200"/>
            <a:ext cx="2895840" cy="990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4724280" y="3922560"/>
            <a:ext cx="4267440" cy="2859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, only this second execution reveals the existing datarac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7FB7-B7B8-4614-8B1C-521F6D7D58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age,Burrows,Nelson,Sobalvarro,And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ava PathExplo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ed 30,000 lines of code in a few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rack of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ndidate loc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tecting each variabl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oted by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rack of locks held by each thread,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access b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f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=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omes empty then warnin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E42-D511-46B0-AAE6-CACC2BAF11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21:52:18Z</dcterms:created>
  <dc:creator>Default</dc:creator>
  <dc:description/>
  <dc:language>en-US</dc:language>
  <cp:lastModifiedBy>Your User Name</cp:lastModifiedBy>
  <dcterms:modified xsi:type="dcterms:W3CDTF">2007-04-17T12:01:15Z</dcterms:modified>
  <cp:revision>145</cp:revision>
  <dc:subject/>
  <dc:title>Experiments in Dynamic Analysis of Programs</dc:title>
</cp:coreProperties>
</file>